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Click to move the slide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5B85-3991-4DCF-B40D-1019195DDA9E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51BB-72A1-4341-B84A-96237CDF977F}" type="slidenum">
              <a:rPr b="0" lang="ko-KR" sz="1200" spc="-1" strike="noStrike">
                <a:solidFill>
                  <a:srgbClr val="ffffff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7725-A60B-4D99-8519-8956D11C6AF0}" type="slidenum">
              <a:rPr b="0" lang="ko-KR" sz="1200" spc="-1" strike="noStrike">
                <a:solidFill>
                  <a:srgbClr val="ffffff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6584-09A3-457F-9C78-FB7ED265F385}" type="slidenum">
              <a:rPr b="0" lang="ko-KR" sz="1200" spc="-1" strike="noStrike">
                <a:solidFill>
                  <a:srgbClr val="ffffff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A75B-F944-48CB-B55F-D8F88F495019}" type="slidenum">
              <a:rPr b="0" lang="ko-KR" sz="1200" spc="-1" strike="noStrike">
                <a:solidFill>
                  <a:srgbClr val="ffffff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233F-CEDE-410F-B259-2F9FAA6FD68F}" type="slidenum">
              <a:rPr b="0" lang="ko-KR" sz="1200" spc="-1" strike="noStrike">
                <a:solidFill>
                  <a:srgbClr val="ffffff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6BF1-59B2-43F1-8527-5C59C33EC43D}" type="slidenum">
              <a:rPr b="0" lang="ko-KR" sz="1200" spc="-1" strike="noStrike">
                <a:solidFill>
                  <a:srgbClr val="ffffff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9A7C-573B-4FA2-84D0-05E52E90CB16}" type="slidenum">
              <a:rPr b="0" lang="ko-KR" sz="1200" spc="-1" strike="noStrike">
                <a:solidFill>
                  <a:srgbClr val="ffffff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947E-BC06-467A-A835-7ED35CFDB51F}" type="slidenum">
              <a:rPr b="0" lang="ko-KR" sz="1200" spc="-1" strike="noStrike">
                <a:solidFill>
                  <a:srgbClr val="ffffff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0C98-EDB5-4357-A334-ECCD2A6FE62C}" type="slidenum">
              <a:rPr b="0" lang="ko-KR" sz="1200" spc="-1" strike="noStrike">
                <a:solidFill>
                  <a:srgbClr val="ffffff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1FF7-706A-4F2F-967E-8EB002934863}" type="slidenum">
              <a:rPr b="0" lang="ko-KR" sz="1200" spc="-1" strike="noStrike">
                <a:solidFill>
                  <a:srgbClr val="ffffff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C083-E5E2-44AD-87B4-AE1A6CB78E62}" type="slidenum">
              <a:rPr b="0" lang="ko-KR" sz="1200" spc="-1" strike="noStrike">
                <a:solidFill>
                  <a:srgbClr val="ffffff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F655-3E76-4282-9CBA-A12AE9CAC657}" type="slidenum">
              <a:rPr b="0" lang="ko-KR" sz="1200" spc="-1" strike="noStrike">
                <a:solidFill>
                  <a:srgbClr val="ffffff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0F0E-905B-4DAC-A006-3D831435857A}" type="slidenum">
              <a:rPr b="0" lang="ko-KR" sz="1200" spc="-1" strike="noStrike">
                <a:solidFill>
                  <a:srgbClr val="ffffff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2B07-A38C-4C7B-B3A0-A60E2BB94E4E}" type="slidenum">
              <a:rPr b="0" lang="ko-KR" sz="1200" spc="-1" strike="noStrike">
                <a:solidFill>
                  <a:srgbClr val="ffffff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8C1A-14BC-432C-8638-FD30D5B46429}" type="slidenum">
              <a:rPr b="0" lang="ko-KR" sz="1200" spc="-1" strike="noStrike">
                <a:solidFill>
                  <a:srgbClr val="ffffff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E15D-1181-4D09-AD77-40EF1D2416EE}" type="slidenum">
              <a:rPr b="0" lang="ko-KR" sz="1200" spc="-1" strike="noStrike">
                <a:solidFill>
                  <a:srgbClr val="ffffff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6F96-50FE-4ADC-8F79-EF6B2623178D}" type="slidenum">
              <a:rPr b="0" lang="ko-KR" sz="1200" spc="-1" strike="noStrike">
                <a:solidFill>
                  <a:srgbClr val="ffffff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6B34-798B-4EA4-9C17-DDD7CD4FA9BB}" type="slidenum">
              <a:rPr b="0" lang="ko-KR" sz="1200" spc="-1" strike="noStrike">
                <a:solidFill>
                  <a:srgbClr val="ffffff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93B1-5505-4762-8438-8B576107B4DF}" type="slidenum">
              <a:rPr b="0" lang="ko-KR" sz="1200" spc="-1" strike="noStrike">
                <a:solidFill>
                  <a:srgbClr val="ffffff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2FCC-CDF9-4121-BFCB-EBBF5D94DBA1}" type="slidenum">
              <a:rPr b="0" lang="ko-KR" sz="1200" spc="-1" strike="noStrike">
                <a:solidFill>
                  <a:srgbClr val="ffffff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BCA7-32F3-4232-A165-BE5697BC5553}" type="slidenum">
              <a:rPr b="0" lang="ko-KR" sz="1200" spc="-1" strike="noStrike">
                <a:solidFill>
                  <a:srgbClr val="ffffff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1A85-C3D8-4D50-8A78-0301B04443B2}" type="slidenum">
              <a:rPr b="0" lang="ko-KR" sz="1200" spc="-1" strike="noStrike">
                <a:solidFill>
                  <a:srgbClr val="ffffff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5CA9-607C-4ED3-81D2-65ED1B28EAC3}" type="slidenum">
              <a:rPr b="0" lang="ko-KR" sz="1200" spc="-1" strike="noStrike">
                <a:solidFill>
                  <a:srgbClr val="ffffff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BCA7-9424-4026-AC87-393394F21121}" type="slidenum">
              <a:rPr b="0" lang="ko-KR" sz="1200" spc="-1" strike="noStrike">
                <a:solidFill>
                  <a:srgbClr val="ffffff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5431-CB0C-4918-B48A-C1F5E138AD8C}" type="slidenum">
              <a:rPr b="0" lang="ko-KR" sz="1200" spc="-1" strike="noStrike">
                <a:solidFill>
                  <a:srgbClr val="ffffff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32B4-6329-4AFC-8BB3-E9691FD52693}" type="slidenum">
              <a:rPr b="0" lang="ko-KR" sz="1200" spc="-1" strike="noStrike">
                <a:solidFill>
                  <a:srgbClr val="ffffff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C2A7-E3A2-46F1-922E-126CA7D2A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9B7C-A0A6-469C-87C8-8BC7FFCD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BC12-47FB-4C9E-943A-99EC85DBF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857F-0DC3-40AE-B682-60C4B7B46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37EA-24D4-48E5-9667-79482481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10F9-DC48-454D-82DF-2FADE0BF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B57F-6874-4541-8A13-4471E1BA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4FDF-D068-434F-87FA-191BAC87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4674-42E1-4164-952E-5790E1C3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84E6-4324-46D8-BD1F-85BF35CB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CA23-3FEF-4376-A2CD-BC5C92FD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217D-A4C6-4D53-9B10-CBCBB171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Click to edit the title text format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91D9-9985-40E1-8678-D6BD4F7ED0E2}" type="slidenum">
              <a:rPr b="0" lang="ko-KR" sz="1200" spc="-1" strike="noStrike">
                <a:solidFill>
                  <a:srgbClr val="ffffff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컴퓨터는 어떻게 </a:t>
            </a:r>
            <a:br>
              <a:rPr sz="4400"/>
            </a:b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덧셈</a:t>
            </a: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,</a:t>
            </a: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 </a:t>
            </a: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뺄셈을 할까</a:t>
            </a: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?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011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일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정동욱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C</a:t>
            </a: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는 어떻게 구현할까</a:t>
            </a: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?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C=A·B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rcRect l="22888" t="50666" r="41679" b="20715"/>
          <a:stretch/>
        </p:blipFill>
        <p:spPr>
          <a:xfrm>
            <a:off x="1332000" y="2921040"/>
            <a:ext cx="657684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S</a:t>
            </a: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는 어떻게 구현할까</a:t>
            </a: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?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=A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pic>
        <p:nvPicPr>
          <p:cNvPr id="77" name="Picture 2" descr="http://cfs7.tistory.com/upload_control/download.blog?fhandle=YmxvZzM1MTA0QGZzNy50aXN0b3J5LmNvbTovYXR0YWNoLzAvMTYuYm1w"/>
          <p:cNvPicPr/>
          <p:nvPr/>
        </p:nvPicPr>
        <p:blipFill>
          <a:blip r:embed="rId1"/>
          <a:srcRect l="0" t="63743" r="0" b="24374"/>
          <a:stretch/>
        </p:blipFill>
        <p:spPr>
          <a:xfrm>
            <a:off x="324000" y="3141720"/>
            <a:ext cx="84740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한 자리 수 덧셈기 완성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Half Adder S=A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 / C=A·B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pic>
        <p:nvPicPr>
          <p:cNvPr id="80" name="Picture 2" descr="http://web.sfc.keio.ac.jp/~rdv/keio/sfc/teaching/architecture/architecture-2007/Half-adder.png"/>
          <p:cNvPicPr/>
          <p:nvPr/>
        </p:nvPicPr>
        <p:blipFill>
          <a:blip r:embed="rId1"/>
          <a:stretch/>
        </p:blipFill>
        <p:spPr>
          <a:xfrm>
            <a:off x="1979640" y="2565360"/>
            <a:ext cx="53290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여러 자리 수 덧셈기는</a:t>
            </a: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?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위의 한 자리 수 덧셈기를 이어 붙이면 </a:t>
            </a:r>
            <a:br>
              <a:rPr sz="3200"/>
            </a:b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 자리 수 덧셈기가 될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네 자리 수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P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Q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를 더한다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pic>
        <p:nvPicPr>
          <p:cNvPr id="83" name="Picture 2" descr="http://macao.communications.museum/images/exhibits/2_18_5_2.png"/>
          <p:cNvPicPr/>
          <p:nvPr/>
        </p:nvPicPr>
        <p:blipFill>
          <a:blip r:embed="rId1"/>
          <a:stretch/>
        </p:blipFill>
        <p:spPr>
          <a:xfrm>
            <a:off x="554040" y="3645000"/>
            <a:ext cx="80503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000"/>
                </a:solidFill>
                <a:latin typeface="맑은 고딕"/>
              </a:rPr>
              <a:t>여러 자리 수 덧셈기의 아이디어</a:t>
            </a:r>
            <a:endParaRPr b="1" lang="en-US" sz="4000" spc="-1" strike="noStrike">
              <a:solidFill>
                <a:srgbClr val="ffc000"/>
              </a:solidFill>
              <a:latin typeface="맑은 고딕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http://macao.communications.museum/images/exhibits/2_18_5_1_eng.png"/>
          <p:cNvPicPr/>
          <p:nvPr/>
        </p:nvPicPr>
        <p:blipFill>
          <a:blip r:embed="rId2"/>
          <a:stretch/>
        </p:blipFill>
        <p:spPr>
          <a:xfrm>
            <a:off x="530280" y="1773360"/>
            <a:ext cx="81914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완전덧셈기</a:t>
            </a: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(Full Adder) </a:t>
            </a: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모듈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ffffff"/>
                </a:solidFill>
                <a:latin typeface="맑은 고딕"/>
              </a:rPr>
              <a:t>세 개의 입력 </a:t>
            </a:r>
            <a:r>
              <a:rPr b="0" lang="en-US" sz="2300" spc="-1" strike="noStrike">
                <a:solidFill>
                  <a:srgbClr val="ffffff"/>
                </a:solidFill>
                <a:latin typeface="맑은 고딕"/>
              </a:rPr>
              <a:t>C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맑은 고딕"/>
              </a:rPr>
              <a:t>i</a:t>
            </a:r>
            <a:r>
              <a:rPr b="0" lang="en-US" sz="2300" spc="-1" strike="noStrike">
                <a:solidFill>
                  <a:srgbClr val="ffffff"/>
                </a:solidFill>
                <a:latin typeface="맑은 고딕"/>
              </a:rPr>
              <a:t>, P, Q</a:t>
            </a:r>
            <a:r>
              <a:rPr b="0" lang="ko-KR" sz="2300" spc="-1" strike="noStrike">
                <a:solidFill>
                  <a:srgbClr val="ffffff"/>
                </a:solidFill>
                <a:latin typeface="맑은 고딕"/>
              </a:rPr>
              <a:t>로부터 두 개의 출력 </a:t>
            </a:r>
            <a:r>
              <a:rPr b="0" lang="en-US" sz="2300" spc="-1" strike="noStrike">
                <a:solidFill>
                  <a:srgbClr val="ffffff"/>
                </a:solidFill>
                <a:latin typeface="맑은 고딕"/>
              </a:rPr>
              <a:t>C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맑은 고딕"/>
              </a:rPr>
              <a:t>o</a:t>
            </a:r>
            <a:r>
              <a:rPr b="0" lang="en-US" sz="2300" spc="-1" strike="noStrike">
                <a:solidFill>
                  <a:srgbClr val="ffffff"/>
                </a:solidFill>
                <a:latin typeface="맑은 고딕"/>
              </a:rPr>
              <a:t>, S</a:t>
            </a:r>
            <a:r>
              <a:rPr b="0" lang="ko-KR" sz="2300" spc="-1" strike="noStrike">
                <a:solidFill>
                  <a:srgbClr val="ffffff"/>
                </a:solidFill>
                <a:latin typeface="맑은 고딕"/>
              </a:rPr>
              <a:t>가 나오는 회로</a:t>
            </a:r>
            <a:endParaRPr b="0" lang="en-US" sz="2300" spc="-1" strike="noStrike">
              <a:solidFill>
                <a:srgbClr val="ffffff"/>
              </a:solidFill>
              <a:latin typeface="맑은 고딕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619280" y="2421000"/>
          <a:ext cx="5473800" cy="3932280"/>
        </p:xfrm>
        <a:graphic>
          <a:graphicData uri="http://schemas.openxmlformats.org/drawingml/2006/table">
            <a:tbl>
              <a:tblPr/>
              <a:tblGrid>
                <a:gridCol w="1095480"/>
                <a:gridCol w="1093680"/>
                <a:gridCol w="1095480"/>
                <a:gridCol w="1093680"/>
                <a:gridCol w="1095480"/>
              </a:tblGrid>
              <a:tr h="47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C</a:t>
                      </a:r>
                      <a:r>
                        <a:rPr b="1" lang="en-US" sz="2200" spc="-1" strike="noStrike" baseline="-25000">
                          <a:solidFill>
                            <a:srgbClr val="ffffff"/>
                          </a:solidFill>
                          <a:latin typeface="맑은 고딕"/>
                        </a:rPr>
                        <a:t>i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P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Q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C</a:t>
                      </a:r>
                      <a:r>
                        <a:rPr b="1" lang="en-US" sz="2200" spc="-1" strike="noStrike" baseline="-25000">
                          <a:solidFill>
                            <a:srgbClr val="ffffff"/>
                          </a:solidFill>
                          <a:latin typeface="맑은 고딕"/>
                        </a:rPr>
                        <a:t>o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000"/>
                </a:solidFill>
                <a:latin typeface="맑은 고딕"/>
              </a:rPr>
              <a:t>완전덧셈기 모듈을 어떻게 만들까</a:t>
            </a:r>
            <a:r>
              <a:rPr b="1" lang="en-US" sz="4000" spc="-1" strike="noStrike">
                <a:solidFill>
                  <a:srgbClr val="ffc000"/>
                </a:solidFill>
                <a:latin typeface="맑은 고딕"/>
              </a:rPr>
              <a:t>?</a:t>
            </a:r>
            <a:endParaRPr b="1" lang="en-US" sz="40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4437000"/>
            <a:ext cx="8229600" cy="16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asic 1-bit full adder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32640" indent="-3326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 = (P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Q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맑은 고딕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32640" indent="-3326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맑은 고딕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= (P·Q)+((P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Q)·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맑은 고딕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pic>
        <p:nvPicPr>
          <p:cNvPr id="92" name="Picture 2" descr="http://macao.communications.museum/images/exhibits/2_18_4_2_eng.png"/>
          <p:cNvPicPr/>
          <p:nvPr/>
        </p:nvPicPr>
        <p:blipFill>
          <a:blip r:embed="rId1"/>
          <a:srcRect l="-2688" t="-9348" r="-2482" b="-12481"/>
          <a:stretch/>
        </p:blipFill>
        <p:spPr>
          <a:xfrm>
            <a:off x="324000" y="1484280"/>
            <a:ext cx="8424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http://macao.communications.museum/images/exhibits/2_18_5_1_eng.png"/>
          <p:cNvPicPr/>
          <p:nvPr/>
        </p:nvPicPr>
        <p:blipFill>
          <a:blip r:embed="rId2"/>
          <a:stretch/>
        </p:blipFill>
        <p:spPr>
          <a:xfrm>
            <a:off x="530280" y="1773360"/>
            <a:ext cx="81914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216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000"/>
                </a:solidFill>
                <a:latin typeface="맑은 고딕"/>
              </a:rPr>
              <a:t>뺄셈은 어떻게 할 수 있을까</a:t>
            </a:r>
            <a:r>
              <a:rPr b="1" lang="en-US" sz="4000" spc="-1" strike="noStrike">
                <a:solidFill>
                  <a:srgbClr val="ffc000"/>
                </a:solidFill>
                <a:latin typeface="맑은 고딕"/>
              </a:rPr>
              <a:t>?</a:t>
            </a:r>
            <a:endParaRPr b="1" lang="en-US" sz="40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2160" y="3644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A-B = A + (-B)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음수를 어떻게 표현할 것인가</a:t>
            </a: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?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음수를 보수로 표현하면 </a:t>
            </a:r>
            <a:br>
              <a:rPr sz="3200"/>
            </a:b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덧셈 뺄셈을 정확히 구현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 있음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보수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= 100...00 - B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0011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수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= 10000 – 0011 = 1101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= 1 + </a:t>
            </a:r>
            <a:r>
              <a:rPr b="0" lang="en-US" sz="3200" spc="-1" strike="noStrike">
                <a:solidFill>
                  <a:srgbClr val="ffc000"/>
                </a:solidFill>
                <a:latin typeface="맑은 고딕"/>
              </a:rPr>
              <a:t>(1111 – 0011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= 1 + </a:t>
            </a:r>
            <a:r>
              <a:rPr b="0" lang="en-US" sz="3200" spc="-1" strike="noStrike">
                <a:solidFill>
                  <a:srgbClr val="ffc000"/>
                </a:solidFill>
                <a:latin typeface="맑은 고딕"/>
              </a:rPr>
              <a:t>1100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= 1101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216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000"/>
                </a:solidFill>
                <a:latin typeface="맑은 고딕"/>
              </a:rPr>
              <a:t>불 대수</a:t>
            </a:r>
            <a:r>
              <a:rPr b="1" lang="en-US" sz="4000" spc="-1" strike="noStrike">
                <a:solidFill>
                  <a:srgbClr val="ffc000"/>
                </a:solidFill>
                <a:latin typeface="맑은 고딕"/>
              </a:rPr>
              <a:t>(Boolean algebra)</a:t>
            </a:r>
            <a:endParaRPr b="1" lang="en-US" sz="40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2160" y="3644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논리학 체계를 흉내 낼 수 있는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0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1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로 이루어진 연산 체계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A+ (-B)</a:t>
            </a: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의</a:t>
            </a: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 </a:t>
            </a: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계산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pic>
        <p:nvPicPr>
          <p:cNvPr id="101" name="내용 개체 틀 2" descr=""/>
          <p:cNvPicPr/>
          <p:nvPr/>
        </p:nvPicPr>
        <p:blipFill>
          <a:blip r:embed="rId1"/>
          <a:stretch/>
        </p:blipFill>
        <p:spPr>
          <a:xfrm>
            <a:off x="317520" y="1511280"/>
            <a:ext cx="837576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보수를 논리 게이트로 구현하기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95640" y="1844280"/>
            <a:ext cx="5184720" cy="2089080"/>
          </a:xfrm>
          <a:prstGeom prst="rect">
            <a:avLst/>
          </a:prstGeom>
          <a:ln w="0">
            <a:noFill/>
          </a:ln>
        </p:spPr>
      </p:pic>
      <p:grpSp>
        <p:nvGrpSpPr>
          <p:cNvPr id="104" name="그룹 7"/>
          <p:cNvGrpSpPr/>
          <p:nvPr/>
        </p:nvGrpSpPr>
        <p:grpSpPr>
          <a:xfrm>
            <a:off x="2484360" y="2133720"/>
            <a:ext cx="4535640" cy="1511280"/>
            <a:chOff x="2484360" y="2133720"/>
            <a:chExt cx="4535640" cy="1511280"/>
          </a:xfrm>
        </p:grpSpPr>
        <p:pic>
          <p:nvPicPr>
            <p:cNvPr id="105" name="Picture 4" descr="http://www.forkosh.dreamhost.com/mathtex.cgi?P%20=%20P_3%20P_2%20P_1%20P_0"/>
            <p:cNvPicPr/>
            <p:nvPr/>
          </p:nvPicPr>
          <p:blipFill>
            <a:blip r:embed="rId2"/>
            <a:stretch/>
          </p:blipFill>
          <p:spPr>
            <a:xfrm>
              <a:off x="2484360" y="2133720"/>
              <a:ext cx="302400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6" descr="http://www.forkosh.dreamhost.com/mathtex.cgi?\bar%20P%20=%20\bar%20P_3%20\bar%20P_2%20\bar%20P_1%20\bar%20P_0%20+%200001"/>
            <p:cNvPicPr/>
            <p:nvPr/>
          </p:nvPicPr>
          <p:blipFill>
            <a:blip r:embed="rId3"/>
            <a:stretch/>
          </p:blipFill>
          <p:spPr>
            <a:xfrm>
              <a:off x="2484360" y="2976480"/>
              <a:ext cx="4535640" cy="668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000"/>
                </a:solidFill>
                <a:latin typeface="맑은 고딕"/>
              </a:rPr>
              <a:t>논리회로를 어떻게 </a:t>
            </a:r>
            <a:br>
              <a:rPr sz="4000"/>
            </a:br>
            <a:r>
              <a:rPr b="1" lang="ko-KR" sz="4000" spc="-1" strike="noStrike">
                <a:solidFill>
                  <a:srgbClr val="ffc000"/>
                </a:solidFill>
                <a:latin typeface="맑은 고딕"/>
              </a:rPr>
              <a:t>실제 회로로 구현할 것인가</a:t>
            </a:r>
            <a:r>
              <a:rPr b="1" lang="en-US" sz="4000" spc="-1" strike="noStrike">
                <a:solidFill>
                  <a:srgbClr val="ffc000"/>
                </a:solidFill>
                <a:latin typeface="맑은 고딕"/>
              </a:rPr>
              <a:t>?</a:t>
            </a:r>
            <a:endParaRPr b="1" lang="en-US" sz="40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3644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4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계전기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http://www.lauftext.de/cybernetic-computer/images/illu8.gif"/>
          <p:cNvPicPr/>
          <p:nvPr/>
        </p:nvPicPr>
        <p:blipFill>
          <a:blip r:embed="rId2"/>
          <a:stretch/>
        </p:blipFill>
        <p:spPr>
          <a:xfrm>
            <a:off x="2916360" y="333360"/>
            <a:ext cx="5135400" cy="61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000"/>
                </a:solidFill>
                <a:latin typeface="맑은 고딕"/>
              </a:rPr>
              <a:t>계전기를 이용한 논리게이트 구현</a:t>
            </a:r>
            <a:endParaRPr b="1" lang="en-US" sz="4000" spc="-1" strike="noStrike">
              <a:solidFill>
                <a:srgbClr val="ffc000"/>
              </a:solidFill>
              <a:latin typeface="맑은 고딕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http://www.lauftext.de/cybernetic-computer/images/illu9.gif"/>
          <p:cNvPicPr/>
          <p:nvPr/>
        </p:nvPicPr>
        <p:blipFill>
          <a:blip r:embed="rId2"/>
          <a:stretch/>
        </p:blipFill>
        <p:spPr>
          <a:xfrm>
            <a:off x="324000" y="1773360"/>
            <a:ext cx="84992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‘</a:t>
            </a: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슈퍼 계전기</a:t>
            </a: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’ </a:t>
            </a: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트랜지스터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pic>
        <p:nvPicPr>
          <p:cNvPr id="117" name="Picture 2" descr="http://pds16.egloos.com/pds/200909/21/41/d0097441_4ab78d00a7c2f.png"/>
          <p:cNvPicPr/>
          <p:nvPr/>
        </p:nvPicPr>
        <p:blipFill>
          <a:blip r:embed="rId1"/>
          <a:srcRect l="-3787" t="-8462" r="-3419" b="-8462"/>
          <a:stretch/>
        </p:blipFill>
        <p:spPr>
          <a:xfrm>
            <a:off x="749160" y="1557360"/>
            <a:ext cx="77835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전자석 계전기 </a:t>
            </a: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vs. </a:t>
            </a: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트랜지스터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전자석 계전기 </a:t>
            </a:r>
            <a:r>
              <a:rPr b="0" lang="en-US" sz="30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전자석에 전기를 흘려주면 스위치를 끌어당겨 스위치를 닫아</a:t>
            </a:r>
            <a:r>
              <a:rPr b="0" lang="en-US" sz="30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열어</a:t>
            </a:r>
            <a:r>
              <a:rPr b="0" lang="en-US" sz="30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주는 장치</a:t>
            </a:r>
            <a:endParaRPr b="0" lang="en-US" sz="30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트랜지스터 </a:t>
            </a:r>
            <a:r>
              <a:rPr b="0" lang="en-US" sz="30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반도체 표면에 약간의 전압을 가하면 양쪽 사이에 전기를 잘 통과시키는 성질을 이용한 계전기</a:t>
            </a:r>
            <a:endParaRPr b="0" lang="en-US" sz="30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트랜지스터의 장점은</a:t>
            </a:r>
            <a:r>
              <a:rPr b="0" lang="en-US" sz="3000" spc="-1" strike="noStrike">
                <a:solidFill>
                  <a:srgbClr val="ffffff"/>
                </a:solidFill>
                <a:latin typeface="맑은 고딕"/>
              </a:rPr>
              <a:t>? </a:t>
            </a: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스위치 전환 빠름</a:t>
            </a:r>
            <a:r>
              <a:rPr b="0" lang="en-US" sz="3000" spc="-1" strike="noStrike">
                <a:solidFill>
                  <a:srgbClr val="ffffff"/>
                </a:solidFill>
                <a:latin typeface="맑은 고딕"/>
              </a:rPr>
              <a:t>. </a:t>
            </a: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스위치를 아주 작게 만들 수 있음</a:t>
            </a:r>
            <a:r>
              <a:rPr b="0" lang="en-US" sz="3000" spc="-1" strike="noStrike">
                <a:solidFill>
                  <a:srgbClr val="ffffff"/>
                </a:solidFill>
                <a:latin typeface="맑은 고딕"/>
              </a:rPr>
              <a:t>. </a:t>
            </a: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전력 소모 적음</a:t>
            </a:r>
            <a:r>
              <a:rPr b="0" lang="en-US" sz="3000" spc="-1" strike="noStrike">
                <a:solidFill>
                  <a:srgbClr val="ffffff"/>
                </a:solidFill>
                <a:latin typeface="맑은 고딕"/>
              </a:rPr>
              <a:t>. </a:t>
            </a: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안정성 뛰어남</a:t>
            </a:r>
            <a:r>
              <a:rPr b="0" lang="en-US" sz="3000" spc="-1" strike="noStrike">
                <a:solidFill>
                  <a:srgbClr val="ffffff"/>
                </a:solidFill>
                <a:latin typeface="맑은 고딕"/>
              </a:rPr>
              <a:t>. </a:t>
            </a: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제조 원료 풍부</a:t>
            </a:r>
            <a:r>
              <a:rPr b="0" lang="en-US" sz="3000" spc="-1" strike="noStrike">
                <a:solidFill>
                  <a:srgbClr val="ffffff"/>
                </a:solidFill>
                <a:latin typeface="맑은 고딕"/>
              </a:rPr>
              <a:t>!</a:t>
            </a:r>
            <a:endParaRPr b="0" lang="en-US" sz="30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216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000"/>
                </a:solidFill>
                <a:latin typeface="맑은 고딕"/>
              </a:rPr>
              <a:t>불 연산자</a:t>
            </a:r>
            <a:r>
              <a:rPr b="1" lang="en-US" sz="4000" spc="-1" strike="noStrike">
                <a:solidFill>
                  <a:srgbClr val="ffc000"/>
                </a:solidFill>
                <a:latin typeface="맑은 고딕"/>
              </a:rPr>
              <a:t>(Boolean operator)</a:t>
            </a:r>
            <a:endParaRPr b="1" lang="en-US" sz="40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2160" y="364464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0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또는 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1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의 입력들을 받아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0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또는 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1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의 결과를 내보내는 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2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진 연산자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예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) Y = A and B, Y = A or B, Y = not A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216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000"/>
                </a:solidFill>
                <a:latin typeface="맑은 고딕"/>
              </a:rPr>
              <a:t>논리회로</a:t>
            </a:r>
            <a:r>
              <a:rPr b="1" lang="en-US" sz="4000" spc="-1" strike="noStrike">
                <a:solidFill>
                  <a:srgbClr val="ffc000"/>
                </a:solidFill>
                <a:latin typeface="맑은 고딕"/>
              </a:rPr>
              <a:t>(Logical circuit)</a:t>
            </a:r>
            <a:endParaRPr b="1" lang="en-US" sz="40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22160" y="3644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맑은 고딕"/>
              </a:rPr>
              <a:t>불 대수 체계를 구현하는 전기회로</a:t>
            </a:r>
            <a:endParaRPr b="0" lang="en-US" sz="2200" spc="-1" strike="noStrike">
              <a:solidFill>
                <a:srgbClr val="ffffff"/>
              </a:solidFill>
              <a:latin typeface="맑은 고딕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맑은 고딕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맑은 고딕"/>
              </a:rPr>
              <a:t>입력과 출력 값은 전기신호로</a:t>
            </a:r>
            <a:br>
              <a:rPr sz="2200"/>
            </a:br>
            <a:r>
              <a:rPr b="0" lang="ko-KR" sz="2200" spc="-1" strike="noStrike">
                <a:solidFill>
                  <a:srgbClr val="ffffff"/>
                </a:solidFill>
                <a:latin typeface="맑은 고딕"/>
              </a:rPr>
              <a:t>불 연산자는 논리 게이트로 구현</a:t>
            </a:r>
            <a:endParaRPr b="0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AND </a:t>
            </a: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게이트</a:t>
            </a: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(</a:t>
            </a: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논리곱</a:t>
            </a: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)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2"/>
          <a:srcRect l="22888" t="50666" r="41679" b="20715"/>
          <a:stretch/>
        </p:blipFill>
        <p:spPr>
          <a:xfrm>
            <a:off x="468360" y="1628640"/>
            <a:ext cx="81691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OR </a:t>
            </a: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게이트</a:t>
            </a: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(</a:t>
            </a: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논리합</a:t>
            </a: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)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rcRect l="22818" t="24799" r="42051" b="46025"/>
          <a:stretch/>
        </p:blipFill>
        <p:spPr>
          <a:xfrm>
            <a:off x="468360" y="1628640"/>
            <a:ext cx="8253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NOT </a:t>
            </a: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게이트</a:t>
            </a: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(</a:t>
            </a: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논리적 부정</a:t>
            </a: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)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rcRect l="22825" t="35415" r="42051" b="35415"/>
          <a:stretch/>
        </p:blipFill>
        <p:spPr>
          <a:xfrm>
            <a:off x="484200" y="1628640"/>
            <a:ext cx="8264520" cy="38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기타 논리 게이트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http://cfs7.tistory.com/upload_control/download.blog?fhandle=YmxvZzM1MTA0QGZzNy50aXN0b3J5LmNvbTovYXR0YWNoLzAvMTYuYm1w"/>
          <p:cNvPicPr/>
          <p:nvPr/>
        </p:nvPicPr>
        <p:blipFill>
          <a:blip r:embed="rId2"/>
          <a:srcRect l="0" t="38818" r="0" b="0"/>
          <a:stretch/>
        </p:blipFill>
        <p:spPr>
          <a:xfrm>
            <a:off x="1547640" y="1557360"/>
            <a:ext cx="612000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한</a:t>
            </a: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 </a:t>
            </a: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자리 수 덧셈기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A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+)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_____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pic>
        <p:nvPicPr>
          <p:cNvPr id="70" name="Picture 2" descr="http://www2.cs.siu.edu/~cs320/images/half-adder.png"/>
          <p:cNvPicPr/>
          <p:nvPr/>
        </p:nvPicPr>
        <p:blipFill>
          <a:blip r:embed="rId1"/>
          <a:srcRect l="0" t="0" r="9907" b="0"/>
          <a:stretch/>
        </p:blipFill>
        <p:spPr>
          <a:xfrm>
            <a:off x="468360" y="3716280"/>
            <a:ext cx="5327640" cy="1944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http://www2.cs.siu.edu/~cs320/images/half-adder-truth-table.png"/>
          <p:cNvPicPr/>
          <p:nvPr/>
        </p:nvPicPr>
        <p:blipFill>
          <a:blip r:embed="rId2"/>
          <a:stretch/>
        </p:blipFill>
        <p:spPr>
          <a:xfrm>
            <a:off x="5940360" y="1628640"/>
            <a:ext cx="2808360" cy="40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04:47:35Z</dcterms:created>
  <dc:creator>zolaist</dc:creator>
  <dc:description/>
  <dc:language>en-US</dc:language>
  <cp:lastModifiedBy>zolaist</cp:lastModifiedBy>
  <dcterms:modified xsi:type="dcterms:W3CDTF">2011-10-04T01:00:00Z</dcterms:modified>
  <cp:revision>7</cp:revision>
  <dc:subject/>
  <dc:title>컴퓨터는 어떻게  덧셈, 뺄셈을 할까?</dc:title>
</cp:coreProperties>
</file>